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316-9D38-4F90-86BC-84BBE866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0BB-6A17-4E37-B1D4-71439AA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470-8DD4-4831-821E-0BC598E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800-360C-4EDB-B1ED-B5586DF1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765-DBC9-4D63-A365-0A9A7C13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5A3-2171-40BE-A1C8-1BB4EA0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4D39-C8F2-4262-A234-0508E0D4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E264-B7C9-4883-A5A2-AA255DA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834D-016B-4089-BC0B-74B1CD6D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685-D10A-43A2-9130-76B9602C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5001-1CCD-4462-877F-F5F2E8A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CFB-B6E8-46FF-97F2-D2C235BB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CD5-6506-4892-BFB6-0132BAE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BC70-14B3-4369-BC83-38F2E42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20C-DDDF-47C0-AF4B-7F67E7EB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0D6-0C95-4526-B667-FE12FE80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DAA-40D3-4D20-9C30-D4AA99CF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A79-3E9B-40C7-8A63-4402364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7A2-84BF-4AE4-A9C1-81AC513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A9C-0A81-417F-BC55-743D8ED5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926-7EBB-4E43-9641-14D9A10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D09-15AE-4602-BFD4-E835760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4EB-63FF-481E-A95F-42C6AB5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524-3A7F-4FE8-904E-8BD7D2E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836-7DC8-48D2-940B-D75467852AC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405-826B-49DD-BDEE-E727959953E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移位与移位指令、编解码指令等常用功能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使用常用功能指令进行彩灯循环控制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开发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灯循环控制应用系统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1840" y="14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硬件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3591" r="0" b="1437"/>
          <a:stretch/>
        </p:blipFill>
        <p:spPr>
          <a:xfrm>
            <a:off x="5394240" y="3068640"/>
            <a:ext cx="37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408720" cy="262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5013360"/>
            <a:ext cx="1943280" cy="1413000"/>
          </a:xfrm>
          <a:prstGeom prst="wedgeRoundRectCallout">
            <a:avLst>
              <a:gd name="adj1" fmla="val 6537"/>
              <a:gd name="adj2" fmla="val -80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继电器接触器控制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1656000" cy="1440000"/>
          </a:xfrm>
          <a:prstGeom prst="wedgeRoundRectCallout">
            <a:avLst>
              <a:gd name="adj1" fmla="val 99666"/>
              <a:gd name="adj2" fmla="val 2883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8000" y="2276640"/>
            <a:ext cx="310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示演 堂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02400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0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47720"/>
            <a:ext cx="72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移位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熟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-169"/>
          <a:stretch/>
        </p:blipFill>
        <p:spPr>
          <a:xfrm>
            <a:off x="5386320" y="765000"/>
            <a:ext cx="3757680" cy="609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7040" y="907200"/>
            <a:ext cx="44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960720" cy="2865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49991" b="56571"/>
          <a:stretch/>
        </p:blipFill>
        <p:spPr>
          <a:xfrm>
            <a:off x="1116000" y="4770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Arial"/>
              </a:rPr>
              <a:t>模块八  其他功能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07d1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87640" cy="146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3645000"/>
            <a:ext cx="2246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8360" y="1627560"/>
            <a:ext cx="23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试分析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梯形图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473200" y="3090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3167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设计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电路，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脉冲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一个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彩灯移位是否移位，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左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或右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将彩灯的初值设定为十六进制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F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设计出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8560" y="2059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228"/>
          <a:stretch/>
        </p:blipFill>
        <p:spPr>
          <a:xfrm>
            <a:off x="1258920" y="2565360"/>
            <a:ext cx="7129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82436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03480" y="616500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右移指令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524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左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98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7320" y="4508640"/>
            <a:ext cx="8356680" cy="159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7280" y="622224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13264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带进位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13800" cy="153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4598" r="0" b="7462"/>
          <a:stretch/>
        </p:blipFill>
        <p:spPr>
          <a:xfrm>
            <a:off x="611280" y="4292640"/>
            <a:ext cx="8532720" cy="152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97560" y="609192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右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带进位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833760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920" y="616500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8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位右移和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14324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22920" y="4344840"/>
            <a:ext cx="422424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210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32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6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3440" y="17722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解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5400" y="1322280"/>
            <a:ext cx="6551280" cy="144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184720" cy="5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0080" y="3689280"/>
          <a:ext cx="8317080" cy="3057480"/>
        </p:xfrm>
        <a:graphic>
          <a:graphicData uri="http://schemas.openxmlformats.org/drawingml/2006/table">
            <a:tbl>
              <a:tblPr/>
              <a:tblGrid>
                <a:gridCol w="1513080"/>
                <a:gridCol w="2092320"/>
                <a:gridCol w="4711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3200" y="179820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6516720" cy="146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6087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817560" y="3645000"/>
          <a:ext cx="7772040" cy="3107880"/>
        </p:xfrm>
        <a:graphic>
          <a:graphicData uri="http://schemas.openxmlformats.org/drawingml/2006/table">
            <a:tbl>
              <a:tblPr/>
              <a:tblGrid>
                <a:gridCol w="3894840"/>
                <a:gridCol w="3877200"/>
              </a:tblGrid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0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1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1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1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1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0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8560" y="1627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交替输出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83628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60" y="2205000"/>
            <a:ext cx="52927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2263" r="56064" b="0"/>
          <a:stretch/>
        </p:blipFill>
        <p:spPr>
          <a:xfrm>
            <a:off x="900000" y="3500280"/>
            <a:ext cx="40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49900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44340" t="-16513" r="0" b="0"/>
          <a:stretch/>
        </p:blipFill>
        <p:spPr>
          <a:xfrm>
            <a:off x="684360" y="4581360"/>
            <a:ext cx="439092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5950080"/>
            <a:ext cx="4645080" cy="761760"/>
          </a:xfrm>
          <a:prstGeom prst="wedgeRoundRectCallout">
            <a:avLst>
              <a:gd name="adj1" fmla="val 54680"/>
              <a:gd name="adj2" fmla="val -2395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控制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10T02:05:17Z</dcterms:modified>
  <cp:revision>132</cp:revision>
  <dc:subject/>
  <dc:title>模块二  S7-200系列PLC的基本结构 </dc:title>
</cp:coreProperties>
</file>